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9A7D-6490-4FF7-90C6-188A548AC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1DA3-549A-4F8C-97D0-D13D4FE5A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1268-2BE9-4B80-A299-B0706FD92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EA45-1F22-4AD8-A0E3-8C00BE958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24FC-364D-4D9E-9ED6-E03E8F664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0038-9DEA-4866-AA24-EEA916AD5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3175-8A40-450A-BAF8-C5AA7F1F0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2678-2DBA-4343-846A-24FBA4776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A6C8-013E-481A-9220-90C6061C1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6F09-2F00-4C50-974E-62F40E36A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DFEF-1B1B-4573-92DC-63F7F4A4E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2E07-1D9B-440D-A826-8461915F0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B9E87-9CB5-4B80-8684-71110D8BAF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24000" y="1628640"/>
            <a:ext cx="388764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FreeHandCyr"/>
              </a:rPr>
              <a:t>Ден на радост и триумф</a:t>
            </a:r>
            <a:endParaRPr b="1" i="1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FreeHandCyr"/>
              <a:ea typeface="FreeHandCyr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FreeHandCyr"/>
              </a:rPr>
              <a:t>и победа над греха.</a:t>
            </a:r>
            <a:endParaRPr b="1" i="1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FreeHandCyr"/>
              <a:ea typeface="FreeHandCyr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FreeHandCyr"/>
              </a:rPr>
              <a:t>Ден, във който ме прие</a:t>
            </a:r>
            <a:endParaRPr b="1" i="1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FreeHandCyr"/>
              <a:ea typeface="FreeHandCyr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FreeHandCyr"/>
              </a:rPr>
              <a:t>и повярвах в Твоето име.</a:t>
            </a:r>
            <a:endParaRPr b="1" i="1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FreeHandCyr"/>
              <a:ea typeface="FreeHandCyr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38836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324000" y="1628640"/>
            <a:ext cx="388764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FreeHandCyr"/>
              </a:rPr>
              <a:t>Ден, във който ме прие</a:t>
            </a:r>
            <a:endParaRPr b="1" i="1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FreeHandCyr"/>
              <a:ea typeface="FreeHandCyr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FreeHandCyr"/>
              </a:rPr>
              <a:t>и избави от греха.</a:t>
            </a:r>
            <a:endParaRPr b="1" i="1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FreeHandCyr"/>
              <a:ea typeface="FreeHandCyr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FreeHandCyr"/>
              </a:rPr>
              <a:t>Твоето слово ме подкрепи</a:t>
            </a:r>
            <a:endParaRPr b="1" i="1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FreeHandCyr"/>
              <a:ea typeface="FreeHandCyr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FreeHandCyr"/>
              </a:rPr>
              <a:t>и надежда ми подари.</a:t>
            </a:r>
            <a:endParaRPr b="1" i="1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FreeHandCyr"/>
              <a:ea typeface="FreeHandCyr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324000" y="1628640"/>
            <a:ext cx="388764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FreeHandCyr"/>
              </a:rPr>
              <a:t>Ден на радост и триумф</a:t>
            </a:r>
            <a:endParaRPr b="1" i="1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FreeHandCyr"/>
              <a:ea typeface="FreeHandCyr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FreeHandCyr"/>
              </a:rPr>
              <a:t>и победа над греха.</a:t>
            </a:r>
            <a:endParaRPr b="1" i="1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FreeHandCyr"/>
              <a:ea typeface="FreeHandCyr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FreeHandCyr"/>
              </a:rPr>
              <a:t>Ден, във който ме прие</a:t>
            </a:r>
            <a:endParaRPr b="1" i="1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FreeHandCyr"/>
              <a:ea typeface="FreeHandCyr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FreeHandCyr"/>
              </a:rPr>
              <a:t>и повярвах в Твоето име.</a:t>
            </a:r>
            <a:endParaRPr b="1" i="1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FreeHandCyr"/>
              <a:ea typeface="FreeHandCyr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324000" y="1628640"/>
            <a:ext cx="388764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FreeHandCyr"/>
              </a:rPr>
              <a:t>Ден, във който ме прие</a:t>
            </a:r>
            <a:endParaRPr b="1" i="1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FreeHandCyr"/>
              <a:ea typeface="FreeHandCyr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FreeHandCyr"/>
              </a:rPr>
              <a:t>и избави от греха.</a:t>
            </a:r>
            <a:endParaRPr b="1" i="1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FreeHandCyr"/>
              <a:ea typeface="FreeHandCyr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FreeHandCyr"/>
              </a:rPr>
              <a:t>Твоето слово ме подкрепи</a:t>
            </a:r>
            <a:endParaRPr b="1" i="1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FreeHandCyr"/>
              <a:ea typeface="FreeHandCyr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FreeHandCyr"/>
              </a:rPr>
              <a:t>и надежда ми подари.</a:t>
            </a:r>
            <a:endParaRPr b="1" i="1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FreeHandCyr"/>
              <a:ea typeface="FreeHandCyr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5T20:52:48Z</dcterms:created>
  <dc:creator>TrifonTrifonow</dc:creator>
  <dc:description/>
  <dc:language>en-US</dc:language>
  <cp:lastModifiedBy>TrifonTrifonow</cp:lastModifiedBy>
  <dcterms:modified xsi:type="dcterms:W3CDTF">2005-12-15T20:53:11Z</dcterms:modified>
  <cp:revision>1</cp:revision>
  <dc:subject/>
  <dc:title>Slide 1</dc:title>
</cp:coreProperties>
</file>